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970-7E50-45C4-B2EA-2EDC5160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520-1EEC-4947-82DC-25860DBE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843-4629-41EF-BE17-087C25DE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530-0F72-4255-871F-4E004709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717-4620-42F4-9385-B11E9739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88E-8205-4B97-89FB-1FCC2221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115-FC58-4D41-BEDD-CA015E69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A3E-4A63-481E-B7A0-1EDDE221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151-C76D-488B-AD46-2AB951A7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EBC-4569-4F83-9D01-8509EF69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AD8-C9B3-42F3-A1EA-A6188DA1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BE2-DE9C-473B-8D40-F7372E99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60C6-FB81-47BD-A65A-233BF8243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42920" y="692280"/>
            <a:ext cx="7058160" cy="208728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本田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R-V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安装手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RV"/>
          <p:cNvPicPr/>
          <p:nvPr/>
        </p:nvPicPr>
        <p:blipFill>
          <a:blip r:embed="rId1"/>
          <a:stretch/>
        </p:blipFill>
        <p:spPr>
          <a:xfrm>
            <a:off x="2268360" y="3141720"/>
            <a:ext cx="446436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68360" y="1268280"/>
            <a:ext cx="8207280" cy="2189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本安装手册适用于建伍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DVD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接收机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DDX6HD10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本手册只介绍了安装顺序，没有其他额外的辅助介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使用本手册时有关显示屏的拆装，连接，全部由客户自行负担来处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由于安装产生的任何问题与建伍公司无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由于车辆生产日期和车辆配置的不同，安装方法可能会有少许不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有的车辆没有方向盘控制按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68360" y="69228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注          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start"/>
          <p:cNvPicPr/>
          <p:nvPr/>
        </p:nvPicPr>
        <p:blipFill>
          <a:blip r:embed="rId1"/>
          <a:stretch/>
        </p:blipFill>
        <p:spPr>
          <a:xfrm>
            <a:off x="611280" y="404640"/>
            <a:ext cx="3556080" cy="2667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上部パネル"/>
          <p:cNvPicPr/>
          <p:nvPr/>
        </p:nvPicPr>
        <p:blipFill>
          <a:blip r:embed="rId2"/>
          <a:stretch/>
        </p:blipFill>
        <p:spPr>
          <a:xfrm>
            <a:off x="4643280" y="728640"/>
            <a:ext cx="3457800" cy="2594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吹き出し口"/>
          <p:cNvPicPr/>
          <p:nvPr/>
        </p:nvPicPr>
        <p:blipFill>
          <a:blip r:embed="rId3"/>
          <a:stretch/>
        </p:blipFill>
        <p:spPr>
          <a:xfrm>
            <a:off x="4643280" y="3789360"/>
            <a:ext cx="3483000" cy="2612880"/>
          </a:xfrm>
          <a:prstGeom prst="rect">
            <a:avLst/>
          </a:prstGeom>
          <a:ln w="0">
            <a:noFill/>
          </a:ln>
        </p:spPr>
      </p:pic>
      <p:sp>
        <p:nvSpPr>
          <p:cNvPr id="49" name="Oval 16"/>
          <p:cNvSpPr/>
          <p:nvPr/>
        </p:nvSpPr>
        <p:spPr>
          <a:xfrm>
            <a:off x="5292720" y="1484280"/>
            <a:ext cx="2158920" cy="5047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4572000" y="40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57200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468360" y="4149720"/>
            <a:ext cx="3598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取下顶部面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拆下前方空调出风口面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エアコン"/>
          <p:cNvPicPr/>
          <p:nvPr/>
        </p:nvPicPr>
        <p:blipFill>
          <a:blip r:embed="rId1"/>
          <a:stretch/>
        </p:blipFill>
        <p:spPr>
          <a:xfrm>
            <a:off x="611280" y="476280"/>
            <a:ext cx="3759120" cy="281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脱途中"/>
          <p:cNvPicPr/>
          <p:nvPr/>
        </p:nvPicPr>
        <p:blipFill>
          <a:blip r:embed="rId2"/>
          <a:stretch/>
        </p:blipFill>
        <p:spPr>
          <a:xfrm>
            <a:off x="611280" y="378936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1128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11280" y="115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572000" y="549360"/>
            <a:ext cx="442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取下空调控制面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取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处固定螺丝之后，拆下原车主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ﾋﾞｽ上"/>
          <p:cNvPicPr/>
          <p:nvPr/>
        </p:nvPicPr>
        <p:blipFill>
          <a:blip r:embed="rId3"/>
          <a:srcRect l="0" t="16695" r="0" b="19926"/>
          <a:stretch/>
        </p:blipFill>
        <p:spPr>
          <a:xfrm>
            <a:off x="5508720" y="3500280"/>
            <a:ext cx="2879640" cy="1368720"/>
          </a:xfrm>
          <a:prstGeom prst="rect">
            <a:avLst/>
          </a:prstGeom>
          <a:ln w="0">
            <a:noFill/>
          </a:ln>
        </p:spPr>
      </p:pic>
      <p:sp>
        <p:nvSpPr>
          <p:cNvPr id="59" name="Oval 11"/>
          <p:cNvSpPr/>
          <p:nvPr/>
        </p:nvSpPr>
        <p:spPr>
          <a:xfrm>
            <a:off x="5724360" y="4076640"/>
            <a:ext cx="271800" cy="2714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7667640" y="4076640"/>
            <a:ext cx="271440" cy="2714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ﾋﾞｽ下"/>
          <p:cNvPicPr/>
          <p:nvPr/>
        </p:nvPicPr>
        <p:blipFill>
          <a:blip r:embed="rId4"/>
          <a:srcRect l="0" t="15077" r="0" b="12030"/>
          <a:stretch/>
        </p:blipFill>
        <p:spPr>
          <a:xfrm>
            <a:off x="5506920" y="5013360"/>
            <a:ext cx="2881440" cy="1576440"/>
          </a:xfrm>
          <a:prstGeom prst="rect">
            <a:avLst/>
          </a:prstGeom>
          <a:ln w="0">
            <a:noFill/>
          </a:ln>
        </p:spPr>
      </p:pic>
      <p:sp>
        <p:nvSpPr>
          <p:cNvPr id="62" name="Oval 14"/>
          <p:cNvSpPr/>
          <p:nvPr/>
        </p:nvSpPr>
        <p:spPr>
          <a:xfrm>
            <a:off x="6227640" y="5661000"/>
            <a:ext cx="271440" cy="2714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7596360" y="5734080"/>
            <a:ext cx="271440" cy="2714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1403280" y="4221000"/>
            <a:ext cx="2089080" cy="360360"/>
          </a:xfrm>
          <a:prstGeom prst="roundRect">
            <a:avLst>
              <a:gd name="adj" fmla="val 40560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1403280" y="5734080"/>
            <a:ext cx="2089080" cy="360360"/>
          </a:xfrm>
          <a:prstGeom prst="roundRect">
            <a:avLst>
              <a:gd name="adj" fmla="val 40560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3635280" y="4292280"/>
            <a:ext cx="2016360" cy="144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 flipV="1">
            <a:off x="3635280" y="5805000"/>
            <a:ext cx="2305080" cy="7308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413000"/>
            <a:ext cx="3959280" cy="1800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コネクタ17p_20p"/>
          <p:cNvPicPr/>
          <p:nvPr/>
        </p:nvPicPr>
        <p:blipFill>
          <a:blip r:embed="rId1"/>
          <a:stretch/>
        </p:blipFill>
        <p:spPr>
          <a:xfrm>
            <a:off x="395280" y="476280"/>
            <a:ext cx="3889440" cy="2435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純正side"/>
          <p:cNvPicPr/>
          <p:nvPr/>
        </p:nvPicPr>
        <p:blipFill>
          <a:blip r:embed="rId2"/>
          <a:stretch/>
        </p:blipFill>
        <p:spPr>
          <a:xfrm>
            <a:off x="395280" y="39513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kwd side"/>
          <p:cNvPicPr/>
          <p:nvPr/>
        </p:nvPicPr>
        <p:blipFill>
          <a:blip r:embed="rId3"/>
          <a:stretch/>
        </p:blipFill>
        <p:spPr>
          <a:xfrm>
            <a:off x="4859280" y="393372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324000" y="115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572000" y="549360"/>
            <a:ext cx="3816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拆下原车主机的状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拆下原车支架，两侧各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颗螺丝固定安装支架和原车主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⑦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使用建伍配套的螺丝将原车支架固定在建伍主机上，每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颗螺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取下原装的白色卡扣安装在建伍主机相应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400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78800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37236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4"/>
          <p:cNvSpPr/>
          <p:nvPr/>
        </p:nvSpPr>
        <p:spPr>
          <a:xfrm>
            <a:off x="5796000" y="4365720"/>
            <a:ext cx="43164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5"/>
          <p:cNvSpPr/>
          <p:nvPr/>
        </p:nvSpPr>
        <p:spPr>
          <a:xfrm>
            <a:off x="5724360" y="5877000"/>
            <a:ext cx="43200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6"/>
          <p:cNvSpPr/>
          <p:nvPr/>
        </p:nvSpPr>
        <p:spPr>
          <a:xfrm>
            <a:off x="4140360" y="5084640"/>
            <a:ext cx="649080" cy="324000"/>
          </a:xfrm>
          <a:prstGeom prst="rightArrow">
            <a:avLst>
              <a:gd name="adj1" fmla="val 50000"/>
              <a:gd name="adj2" fmla="val 66128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7"/>
          <p:cNvSpPr/>
          <p:nvPr/>
        </p:nvSpPr>
        <p:spPr>
          <a:xfrm>
            <a:off x="1763640" y="4797360"/>
            <a:ext cx="287280" cy="287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8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9"/>
          <p:cNvSpPr/>
          <p:nvPr/>
        </p:nvSpPr>
        <p:spPr>
          <a:xfrm>
            <a:off x="1835280" y="5516640"/>
            <a:ext cx="287280" cy="287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0"/>
          <p:cNvSpPr/>
          <p:nvPr/>
        </p:nvSpPr>
        <p:spPr>
          <a:xfrm>
            <a:off x="2411280" y="5516640"/>
            <a:ext cx="287640" cy="287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1"/>
          <p:cNvSpPr/>
          <p:nvPr/>
        </p:nvSpPr>
        <p:spPr>
          <a:xfrm>
            <a:off x="6372360" y="4797360"/>
            <a:ext cx="287280" cy="287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2"/>
          <p:cNvSpPr/>
          <p:nvPr/>
        </p:nvSpPr>
        <p:spPr>
          <a:xfrm>
            <a:off x="6877080" y="4797360"/>
            <a:ext cx="287280" cy="287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3"/>
          <p:cNvSpPr/>
          <p:nvPr/>
        </p:nvSpPr>
        <p:spPr>
          <a:xfrm>
            <a:off x="6372360" y="5445000"/>
            <a:ext cx="287280" cy="287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8101080" y="1989000"/>
            <a:ext cx="287280" cy="287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6445080" y="2709720"/>
            <a:ext cx="287640" cy="28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IMG_1415"/>
          <p:cNvPicPr/>
          <p:nvPr/>
        </p:nvPicPr>
        <p:blipFill>
          <a:blip r:embed="rId1"/>
          <a:stretch/>
        </p:blipFill>
        <p:spPr>
          <a:xfrm>
            <a:off x="684360" y="549360"/>
            <a:ext cx="3887640" cy="2690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CIMG6734"/>
          <p:cNvPicPr/>
          <p:nvPr/>
        </p:nvPicPr>
        <p:blipFill>
          <a:blip r:embed="rId2"/>
          <a:srcRect l="0" t="13397" r="0" b="8424"/>
          <a:stretch/>
        </p:blipFill>
        <p:spPr>
          <a:xfrm>
            <a:off x="684360" y="3789360"/>
            <a:ext cx="4319280" cy="2532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684360" y="1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8436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4932360" y="692280"/>
            <a:ext cx="36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连接车辆端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7PI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端子到建伍附带的线束⑩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使用配套的连接扣连接线束⑩的第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PRK SW”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浅绿色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到车辆的刹车传感器上（低电平有效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"/>
          <p:cNvPicPr/>
          <p:nvPr/>
        </p:nvPicPr>
        <p:blipFill>
          <a:blip r:embed="rId3"/>
          <a:stretch/>
        </p:blipFill>
        <p:spPr>
          <a:xfrm>
            <a:off x="6329520" y="4076640"/>
            <a:ext cx="201924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19280" y="1197000"/>
            <a:ext cx="187164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3645000"/>
            <a:ext cx="1223640" cy="1512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421000"/>
            <a:ext cx="863640" cy="1224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5229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コネクタ20p"/>
          <p:cNvPicPr/>
          <p:nvPr/>
        </p:nvPicPr>
        <p:blipFill>
          <a:blip r:embed="rId1"/>
          <a:stretch/>
        </p:blipFill>
        <p:spPr>
          <a:xfrm>
            <a:off x="5435640" y="847800"/>
            <a:ext cx="2665440" cy="188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IMG_1420"/>
          <p:cNvPicPr/>
          <p:nvPr/>
        </p:nvPicPr>
        <p:blipFill>
          <a:blip r:embed="rId2"/>
          <a:stretch/>
        </p:blipFill>
        <p:spPr>
          <a:xfrm>
            <a:off x="539640" y="620640"/>
            <a:ext cx="4057920" cy="280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ｽﾃﾘﾓGND"/>
          <p:cNvPicPr/>
          <p:nvPr/>
        </p:nvPicPr>
        <p:blipFill>
          <a:blip r:embed="rId3"/>
          <a:stretch/>
        </p:blipFill>
        <p:spPr>
          <a:xfrm>
            <a:off x="539640" y="4005360"/>
            <a:ext cx="324036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468360" y="26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68360" y="36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788000" y="3573360"/>
            <a:ext cx="3960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使用卡扣将车辆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PI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接头的第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脚（粉红色）线和线束⑩的第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EMO CON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蓝色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黄色）线连接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⑫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使用附带的螺丝将配套的黑色单线固定在建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V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背面（图示位置）。使用配套的连接扣将黑色单线的另外一端连接到车辆侧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PI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端子的第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脚（棕色）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H="1">
            <a:off x="7596000" y="1700280"/>
            <a:ext cx="431640" cy="730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8028000" y="15573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435640" y="1700280"/>
            <a:ext cx="288720" cy="1461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4643280" y="1557360"/>
            <a:ext cx="93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H="1">
            <a:off x="3131640" y="1700280"/>
            <a:ext cx="1584360" cy="216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 rot="1099800">
            <a:off x="1843200" y="4449600"/>
            <a:ext cx="504720" cy="177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G_1410"/>
          <p:cNvPicPr/>
          <p:nvPr/>
        </p:nvPicPr>
        <p:blipFill>
          <a:blip r:embed="rId1"/>
          <a:srcRect l="0" t="0" r="14183" b="0"/>
          <a:stretch/>
        </p:blipFill>
        <p:spPr>
          <a:xfrm>
            <a:off x="1979640" y="765000"/>
            <a:ext cx="5423040" cy="4375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187280" y="537372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843280" y="5373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照④到①的顺序安装主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908000" y="404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5:51:20Z</dcterms:created>
  <dc:creator>KENWOOD</dc:creator>
  <dc:description/>
  <dc:language>en-US</dc:language>
  <cp:lastModifiedBy>微软用户</cp:lastModifiedBy>
  <dcterms:modified xsi:type="dcterms:W3CDTF">2011-01-07T08:23:03Z</dcterms:modified>
  <cp:revision>57</cp:revision>
  <dc:subject/>
  <dc:title>CR-V Install support manual</dc:title>
</cp:coreProperties>
</file>